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62C-A61F-4482-89DC-A4C743AB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431-6D89-424A-813E-88B1C44A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8BC-006A-444C-A244-2FF5E02B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7C6-56C5-4D57-804B-6B6305B5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478F-3883-4F5B-8CB1-0301360F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8DA4-3142-41CD-87F4-FFE7CCE7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364E-8782-48E4-9FE4-B975E4E6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F274-042B-4C6B-83A3-10E4586D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4906-8D1A-4A38-A14B-1C06C569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8066-1ECA-4207-BB79-23CEECB7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2A5C-2C64-4569-8E75-5592F69B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AAB-A014-4BBB-826C-28272496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706C-913F-465D-930F-88327EC2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358C-5988-4958-AF7D-F2E388E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E5C3-51DC-4F99-8EAD-A9BF735D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A19F-1E69-452F-BC2F-1785DD39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4403-9C29-43F3-994B-205BCE65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D26-5E46-4270-BA33-A2DA1E45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9C5-888C-43EA-836E-CE808A4F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DA5-B686-46AA-B816-F6CE1AEE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501-8EFC-43AA-B948-09F7F205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763-8C76-4730-8AD1-935F90ED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E15-6F2D-425D-9DFD-05D25B3B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3FF-3E2C-49AA-952D-E0B3E6AE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8373-286B-41AC-8A11-AA9700B106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5CCB-8A98-4B8D-82D2-330326C75C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3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UEST OF THE BRIDEGRO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2:18-20</a:t>
            </a: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; Luke 5:33-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Contrast of the Old and The N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is in Galilee eating in Matthew’s house with publicans and sinners (Mark 2:15-16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great feast &amp; great multitude of Publicans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(Luke 5:29). 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Levi held a great banquet…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, Pharisees were fasting (Mark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).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Their Question to Jesus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John’s disciples fasted ofte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ir fast were in contrast to the law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came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eating or drinking – ha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emon (Matt. 11:1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came eating and drinking – A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lutton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&amp; winebibber (Matt. 11:19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 fasted as a warning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mpending doom (ax at the root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harisees fasted often to show p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be seen of men (Matt. 6:16-1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“twice weekly” to show piet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Lk. 18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ligion was a burden to be born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Matt. 23:1-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accumulating mer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Demands of the Law on fa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fast per year (Lev. 23:2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ferring to Levitical fast (Acts 27: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 were voluntary (practiced f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rrow, affliction, humiliation in sin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Questions Asked By Pharisees &amp; John’s Disciples (Mark 2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y He eats with Pharisees &amp;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sinner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Answer: Mark 2:17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e healthy do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not need a doctor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Matthew 9:13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Go and learn what this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means, I desire mercy, not sacrifi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Luke 5:32, adds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…come to call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sinners to repentan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Why do your disciples not fast?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1. What right do you have to celebrate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2. Why do you reject common practice &amp; order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3. How do you justify being differ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answers question on fast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ridegroom is here – It is time for rejoi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Not a time for sorrowful f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Compares it to a marriage fe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What groom is to bride; Christ is to discipl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hen groom is gone, they will fast (Lk 17:31ff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Fast has meaning only when there is a reas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If no reason or circumstance, then it is mer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   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pious mockery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ospel does not bind Jewish f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sting is allowed but nev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tual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mon cast from Epileptic Bo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7:21; Mk 9:2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/Barnabas set apart by fas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Acts 13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s ordained by fasting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:22-2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fasted often (2 Cor. 11: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comes slowly &amp; most always meets with resista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ladness accompanies redemption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s did not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k 15 – Father kills fatted calf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 brother fast and sul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the Baptist – John 3:2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omans 14:17 – What is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5:22 – Fruits of the spir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ow change meets resistance – Exampl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Plucking ears of grain on the Sabbath –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Mark 2:23-28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ealing a woman on the Sabbath -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uke 13:11-17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t is easy for tradition to settle into la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nd anything that would be normal i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aken as abnormal to the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raditionali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hen actions become habit, and habit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ecomes custom, and custom settl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nto tradition, then tradition becom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aw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4:28:58Z</dcterms:created>
  <dc:creator>Jerry Cantrell </dc:creator>
  <dc:description/>
  <dc:language>en-US</dc:language>
  <cp:lastModifiedBy>Jerry Cantrell </cp:lastModifiedBy>
  <dcterms:modified xsi:type="dcterms:W3CDTF">2006-02-13T10:29:53Z</dcterms:modified>
  <cp:revision>19</cp:revision>
  <dc:subject/>
  <dc:title>GUEST OF THE BRIDEGROOM</dc:title>
</cp:coreProperties>
</file>